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879-4D22-423A-BA49-82571B98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2ADC-BBA7-4BC7-932F-4B0C83E6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9C2D-9E91-4736-AECE-A1954F89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4BB-7F88-47C9-8AE4-73065A09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4F5-675C-4261-89EA-F6A9B744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7B4F-9168-407A-AB92-64383D65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02DA-C707-45E2-97B9-F4A01B7A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8AA-AA5A-45A2-8BD4-F36CD201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C4B4-03CF-44AE-B464-AE560945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96CA-295E-47F6-83F2-195EDE56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A71-B3A0-4939-8924-569C1986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05C-6619-4B22-B465-E6AF71AA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C2FA-B9ED-462D-88F0-C93EF95D4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9N4La0-k9c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ykcR3RhyR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gBPAucs-W4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9N4La0-k9c" TargetMode="External"/><Relationship Id="rId2" Type="http://schemas.openxmlformats.org/officeDocument/2006/relationships/hyperlink" Target="http://www.youtube.com/watch?v=NykcR3RhyR4" TargetMode="External"/><Relationship Id="rId3" Type="http://schemas.openxmlformats.org/officeDocument/2006/relationships/hyperlink" Target="http://www.youtube.com/watch?v=XgBPAucs-W4" TargetMode="External"/><Relationship Id="rId4" Type="http://schemas.openxmlformats.org/officeDocument/2006/relationships/hyperlink" Target="http://www.youtube.com/watch?v=XgBPAucs-W4" TargetMode="External"/><Relationship Id="rId5" Type="http://schemas.openxmlformats.org/officeDocument/2006/relationships/hyperlink" Target="http://www.youtube.com/watch?v=XgBPAucs-W4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ecd"/>
            </a:gs>
            <a:gs pos="50000">
              <a:srgbClr val="ccff66"/>
            </a:gs>
            <a:gs pos="100000">
              <a:srgbClr val="edfe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rect taxes, subsidies, and price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 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ee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 b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983120" y="2924280"/>
            <a:ext cx="1224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83120" y="3213000"/>
            <a:ext cx="1295280" cy="72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he tax burden &amp; elast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outcome of the share of tax burden, the amount of producer/government revenue and the size of the market depends on the PED and P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Firstly we will look at what happens when the PED is relatively elastic and the PES is inelast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nitially equilibrium is at P</a:t>
            </a:r>
            <a:r>
              <a:rPr b="0" lang="en-GB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ith the specific tax of XY the supply curve shifts to S</a:t>
            </a:r>
            <a:r>
              <a:rPr b="0" lang="en-GB" sz="1900" spc="-1" strike="noStrike" baseline="-25000">
                <a:solidFill>
                  <a:srgbClr val="000000"/>
                </a:solidFill>
                <a:latin typeface="Arial"/>
              </a:rPr>
              <a:t>+tax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re is a new equilibrium of P</a:t>
            </a:r>
            <a:r>
              <a:rPr b="0" lang="en-GB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consumer pays P1P2Q2 in t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producer pays CP1Q2 in t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e can see that the producer is paying much more of the t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is is because the PED elastic; the firm knows that the consumer is price sensitive; if the price goes too high the consumer will stop buying the produc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y have to bear most of the burden of the t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24720" y="141300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75160" y="306864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20000" y="836640"/>
            <a:ext cx="11523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 (X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2624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29520" y="45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134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81800" y="1916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65800" y="278136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965480" y="32130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65800" y="375912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057720" y="1501920"/>
            <a:ext cx="1538280" cy="2938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940360" y="1158840"/>
            <a:ext cx="1224000" cy="2519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32720" y="206064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9080" y="30178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32720" y="3139920"/>
            <a:ext cx="0" cy="14414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932000" y="2924280"/>
            <a:ext cx="136836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2924280"/>
            <a:ext cx="0" cy="17287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932000" y="3933720"/>
            <a:ext cx="13683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983120" y="2852640"/>
            <a:ext cx="1460520" cy="50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32360" y="3357720"/>
            <a:ext cx="1511280" cy="287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46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he tax burden &amp; elast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we will look at what happens when the PED is relatively inelastic and the PES is 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ly equilibrium is at P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the specific tax of XY the supply curve shifts to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+ta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a new equilibrium of P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sumer pays P1P2Q2 i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ducer pays CP1Q2 i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can see that the consumer is paying much more of th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because the PED is inelastic; the firm knows that if the consumer is not sensitive to price; if the price is increased the consumer % demand will not change as much as the % change in pr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sumer bears most of the burden of th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85080" y="206064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00720" y="321300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75480" y="1628640"/>
            <a:ext cx="11527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 (X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2928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51640" y="1413000"/>
            <a:ext cx="1584360" cy="29527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9784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29520" y="45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3600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16720" y="2492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5800" y="278136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965480" y="337824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40240" y="35053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867280" y="2205000"/>
            <a:ext cx="2089440" cy="20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795640" y="1773360"/>
            <a:ext cx="1800360" cy="1726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732720" y="2637000"/>
            <a:ext cx="0" cy="7207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91160" y="328932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32720" y="3357720"/>
            <a:ext cx="0" cy="1223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932360" y="2852640"/>
            <a:ext cx="151128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43640" y="2873520"/>
            <a:ext cx="0" cy="17287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932360" y="3645000"/>
            <a:ext cx="1511280" cy="4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2723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ED = PES the burden of tax will be equal between the consumer and produ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ED is greater than PES the burden of tax will be greater for the produ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ED is less than PES the burden of tax will be greater for the consu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why governments like to place taxes on products that have relatively inelastic demand such as alcohol or cigar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rket will not reduce in size too much because consumers are price insensitive which protects un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till there will be large tax reven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70920" y="4076640"/>
            <a:ext cx="1873080" cy="14828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flipH="1" flipV="1">
            <a:off x="6659640" y="4292640"/>
            <a:ext cx="43344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6877080" y="5229360"/>
            <a:ext cx="433440" cy="7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235640" y="5734080"/>
            <a:ext cx="43164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184720" cy="41338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324000" y="189000"/>
            <a:ext cx="8496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ime for you to do some wor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pages 65-66 / mak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the student wor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ver the answers of the assessment advice (P67), see if you can answer the question and then check your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w you can complete 1b from P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ajholden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rect tax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t9N4La0-k9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idies (for al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ubsi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subsidy is given to a firm it’s costs are lowered and therefore it will supply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age subsidies are rare so we concentrate on specific subsi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pply curve shifts to the right as seen in the diagr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hifts by the amount of the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everal reasons  why government gives subsi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ower the price of essential goods to increase consumption (e.g. mil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uarantee the supply of goods in an industry the government believes is necessary e.g. c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elp producers compete overseas (protection of indus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333360"/>
            <a:ext cx="36716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amount of money paid by the government to a firm per unit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02600" y="2021040"/>
            <a:ext cx="104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+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91000" y="32749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48200" y="16876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948200" y="45784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58120" y="458136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024600" y="17683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290080" y="1557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262560" y="45687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92640" y="22240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290080" y="41688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932360" y="3449520"/>
            <a:ext cx="17496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93080" y="34164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457668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10400" y="3200400"/>
            <a:ext cx="2232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057720" y="2295360"/>
            <a:ext cx="2409480" cy="204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659640" y="3441600"/>
            <a:ext cx="433440" cy="18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740720" y="24084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78800" y="2203560"/>
            <a:ext cx="8539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965480" y="32004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83080" y="30225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84720" y="3860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308720" y="2852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ub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see that when the subsidy is given to the firm the price reduces from P1 to P2 which is not the whole subsi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whole subsidy was given the price would drop to P3 (HL - depending on elasticiti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now look at the effect on producer revenue, consumer expenditure and government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48360" y="333360"/>
            <a:ext cx="36716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amount of money paid by the government to a firm per unit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02600" y="2021040"/>
            <a:ext cx="104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+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91000" y="32749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48200" y="16876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48200" y="45784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58120" y="458136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024600" y="17683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90080" y="1557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62560" y="45687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92640" y="22240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90080" y="41688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932360" y="3449520"/>
            <a:ext cx="17496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93080" y="34164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59640" y="457668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10400" y="3200400"/>
            <a:ext cx="2232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057720" y="2295360"/>
            <a:ext cx="2409480" cy="204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6659640" y="3441600"/>
            <a:ext cx="433440" cy="18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740720" y="24084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678800" y="2203560"/>
            <a:ext cx="8539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965480" y="32004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83080" y="30225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84720" y="3860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308720" y="2852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932000" y="3789360"/>
            <a:ext cx="180036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27640" y="364500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4944960" y="2924280"/>
            <a:ext cx="2160720" cy="1647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70520" y="3213000"/>
            <a:ext cx="1727280" cy="136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79280" y="1080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roducer Reve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 to the subsidy the firm would be making P1Q1 in revenue (blue bo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subsidy of WZ is given by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m is now making Q2D (yellow plus box) in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 has increased by the yellow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48360" y="333360"/>
            <a:ext cx="36716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amount of money paid by the government to a firm per unit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202600" y="2021040"/>
            <a:ext cx="104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+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91000" y="32749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48200" y="16876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948200" y="45784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58120" y="458136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024600" y="17683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90080" y="1557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262560" y="45687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92640" y="22240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290080" y="41688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932360" y="3449520"/>
            <a:ext cx="17496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093080" y="34164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59640" y="457668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10400" y="3200400"/>
            <a:ext cx="2232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057720" y="2295360"/>
            <a:ext cx="2409480" cy="204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659640" y="3441600"/>
            <a:ext cx="433440" cy="18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965480" y="32004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83080" y="30225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093080" y="2924280"/>
            <a:ext cx="0" cy="539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957920" y="2924280"/>
            <a:ext cx="210960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3689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881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75560" y="3284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end of this section you should be abl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nd give examples of an indirect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e difference between a specific tax and a percentage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e importance of elasticity in understanding the effect of a specific tax on the demand for, and supply of, a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how the imposition of an indirect tax may affect consumers, producers and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how the granting of a subsidy may affect consumers, producers and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, distinguish between, illustrate and give examples of maximum and minimum price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consequences of price controls on the stakeholders in a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L - Explain the significance of the elasticity of demand and supply in assessing the incidence of an indirect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L – using equations of linear functions, show and explain the effects of indirect (specific) taxes on a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L - illustrate and calculate how the incidence of tax differs for consumers, producers and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L – using equations of linear functions, show and explain the effects of subsidies on a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L – calculate the effects of minimum and maximum prices from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 rot="5400000">
            <a:off x="6350400" y="3831480"/>
            <a:ext cx="1114200" cy="3603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32360" y="3213000"/>
            <a:ext cx="1800360" cy="216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79280" y="13788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sumer expend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to the subsidy consumers could buy Q1 at the price of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now buy Q1 at the price of P2 so they make a saving of P1-P2 x Q1 (pink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they will purchase more units at the lower price of Q2-Q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ra expenditure is Q2-Q1 x P2 (purple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expenditure may increase or fall depending upon relative savings and extra expendi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48360" y="333360"/>
            <a:ext cx="36716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amount of money paid by the government to a firm per unit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202600" y="2021040"/>
            <a:ext cx="104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+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91000" y="32749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48200" y="16876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948200" y="45784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458120" y="458136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024600" y="17683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290080" y="1557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62560" y="45687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92640" y="22240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90080" y="41688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932360" y="3449520"/>
            <a:ext cx="17496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93080" y="34164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9640" y="457668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10400" y="3200400"/>
            <a:ext cx="2232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6057720" y="2295360"/>
            <a:ext cx="2409480" cy="204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6659640" y="3441600"/>
            <a:ext cx="433440" cy="18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965480" y="32004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83080" y="30225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93080" y="2924280"/>
            <a:ext cx="0" cy="539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957920" y="2924280"/>
            <a:ext cx="210960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689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7881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775560" y="3284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932360" y="2924280"/>
            <a:ext cx="2160720" cy="504720"/>
          </a:xfrm>
          <a:prstGeom prst="rect">
            <a:avLst/>
          </a:prstGeom>
          <a:gradFill rotWithShape="0">
            <a:gsLst>
              <a:gs pos="0">
                <a:srgbClr val="55261c"/>
              </a:gs>
              <a:gs pos="100000">
                <a:srgbClr val="dceb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79280" y="13788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overnment expend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expenditure is the shaded area DWP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oney has to be found some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opportunity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can either take this away from other areas of spending  (building infrastructure, providing public servi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t must raise taxes (unpopular with vo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t could borrow money and increase deb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48360" y="333360"/>
            <a:ext cx="36716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amount of money paid by the government to a firm per unit of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202600" y="2021040"/>
            <a:ext cx="104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+sub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491000" y="327492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948200" y="16876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48200" y="45784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8120" y="458136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024600" y="1768320"/>
            <a:ext cx="2409840" cy="2043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90080" y="1557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62560" y="45687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92640" y="22240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290080" y="41688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932360" y="3449520"/>
            <a:ext cx="17496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93080" y="34164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659640" y="457668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710400" y="3200400"/>
            <a:ext cx="2232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057720" y="2295360"/>
            <a:ext cx="2409480" cy="204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6659640" y="3441600"/>
            <a:ext cx="433440" cy="18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4965480" y="32004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3080" y="30225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093080" y="2924280"/>
            <a:ext cx="0" cy="539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957920" y="2924280"/>
            <a:ext cx="210960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689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788160" y="278136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775560" y="3284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179280" y="137880"/>
            <a:ext cx="590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valuation of Subsi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ssue of th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pportunity c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the subsidy allow firms to b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effici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free market they might have to be more efficient to compete (on pr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hough the subsidy allows consumers to pay a lower price they may also be th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axpay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at are funding the subsi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idies can lead to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ver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a great deal of international debate about subsidies given to farmers in high income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leads to overproduction and is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damaging to farmers in developing countr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at cannot comp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income countries are accused of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dump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ir products in developing countries (we will learn more about this l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087960" y="1946160"/>
            <a:ext cx="302256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ajholden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i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NykcR3Rhy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24000" y="189000"/>
            <a:ext cx="770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ime for you to do some wor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pages 68-69 / Mak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all of the student workpoints (only one if you are S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Exam Q 2a and b on P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979640" y="2467080"/>
            <a:ext cx="5184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79280" y="137880"/>
            <a:ext cx="590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Price Contr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atch the mjmfoodie vide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XgBPAucs-W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rcRect l="8060" t="27314" r="34649" b="15981"/>
          <a:stretch/>
        </p:blipFill>
        <p:spPr>
          <a:xfrm>
            <a:off x="1258920" y="2536920"/>
            <a:ext cx="6985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23640" y="189000"/>
            <a:ext cx="85690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ime for you to do some wor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pages 70-74 / Mak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ss out the assessment advice on P72 if you are 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all of the student workpoints (one extra if you are H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Exam Q 3a and b on P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the Data Response Question on P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979640" y="2644920"/>
            <a:ext cx="5184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ajholden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rect tax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t9N4La0-k9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i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NykcR3Rhy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jmfoodie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ce floors and cei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youtube.com/watch?v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XgBPAucs-W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3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Indirect Ta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indirect tax is a tax on spe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vernment taxes the firm which increases its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upply curve shifts vertically by the amount of the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product is supplied at every pr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ce 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two types of indirect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diagram illustrates a specific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hift is vertically upward of the amount of the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xample would be the tax on a packet of cigaret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84720" y="333360"/>
            <a:ext cx="2303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rect ta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tax on expend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83080" y="1484280"/>
            <a:ext cx="4353120" cy="5080680"/>
            <a:chOff x="4483080" y="1484280"/>
            <a:chExt cx="4353120" cy="5080680"/>
          </a:xfrm>
        </p:grpSpPr>
        <p:sp>
          <p:nvSpPr>
            <p:cNvPr id="48" name=""/>
            <p:cNvSpPr/>
            <p:nvPr/>
          </p:nvSpPr>
          <p:spPr>
            <a:xfrm>
              <a:off x="4491000" y="3287880"/>
              <a:ext cx="5032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24360" y="5373720"/>
              <a:ext cx="2664000" cy="1191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pecific ta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– a fixed amount of tax that is imposed on a product e.g. $1 per u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48200" y="1700280"/>
              <a:ext cx="0" cy="289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48200" y="4591080"/>
              <a:ext cx="345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58120" y="4594320"/>
              <a:ext cx="108432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Quantit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24600" y="1781280"/>
              <a:ext cx="2409840" cy="204300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56720" y="1484280"/>
              <a:ext cx="85392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 + ta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62560" y="4581360"/>
              <a:ext cx="5968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Q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92640" y="2236680"/>
              <a:ext cx="3186360" cy="203040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90080" y="4181400"/>
              <a:ext cx="54612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932360" y="3462480"/>
              <a:ext cx="1749600" cy="6120"/>
            </a:xfrm>
            <a:prstGeom prst="line">
              <a:avLst/>
            </a:prstGeom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93080" y="3429000"/>
              <a:ext cx="0" cy="1152360"/>
            </a:xfrm>
            <a:prstGeom prst="line">
              <a:avLst/>
            </a:prstGeom>
            <a:ln w="2556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59640" y="4589640"/>
              <a:ext cx="60480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10400" y="3213000"/>
              <a:ext cx="22320" cy="1368360"/>
            </a:xfrm>
            <a:prstGeom prst="line">
              <a:avLst/>
            </a:prstGeom>
            <a:ln w="2556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6057720" y="2308320"/>
              <a:ext cx="2409480" cy="2043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659640" y="3454560"/>
              <a:ext cx="433440" cy="1440"/>
            </a:xfrm>
            <a:prstGeom prst="line">
              <a:avLst/>
            </a:prstGeom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40720" y="242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524720" y="2332080"/>
              <a:ext cx="8542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ta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965480" y="3213000"/>
              <a:ext cx="1749240" cy="6480"/>
            </a:xfrm>
            <a:prstGeom prst="line">
              <a:avLst/>
            </a:prstGeom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83080" y="3035160"/>
              <a:ext cx="5032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21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direct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centage tax increases as the selling price increases as shown in th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would be VAT in the UK (currently 2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84720" y="333360"/>
            <a:ext cx="2303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rect ta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tax on expend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24360" y="5272200"/>
            <a:ext cx="3095640" cy="1465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ercentage tax (Ad Valorem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e tax is the percentage of the selling price.  As the price rises the tax will 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041880" y="1506600"/>
            <a:ext cx="1643040" cy="2411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24720" y="12682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364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932360" y="3462480"/>
            <a:ext cx="174960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3080" y="34290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59640" y="4589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88000" y="3141720"/>
            <a:ext cx="0" cy="1439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057720" y="2308320"/>
            <a:ext cx="2409480" cy="20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659640" y="3454560"/>
            <a:ext cx="433440" cy="144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1801800"/>
            <a:ext cx="0" cy="12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08720" y="206064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1000" y="32878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4962240" y="3135240"/>
            <a:ext cx="162540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99736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00720" y="3560760"/>
            <a:ext cx="0" cy="61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32640" y="378936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21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t effect will the tax have on consumers, producers, government and the market as a who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use the specific tax as 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e tax the firm’s revenue is Q1xP1 (the blue squ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tax of XY is charged the firm would like to pass it all onto the consumer by raising the price to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at price we can see there is an excess of 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ce falls to a new equilibrium at P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1000" y="32878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56720" y="1484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6256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932360" y="3462480"/>
            <a:ext cx="174960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4290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59640" y="4589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659640" y="3454560"/>
            <a:ext cx="433440" cy="144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4072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24720" y="23320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965480" y="32130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720" y="2781360"/>
            <a:ext cx="50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44960" y="3487680"/>
            <a:ext cx="212256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057720" y="2308320"/>
            <a:ext cx="2409480" cy="20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024600" y="1781280"/>
            <a:ext cx="2409840" cy="204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32720" y="3213000"/>
            <a:ext cx="2196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932360" y="2924280"/>
            <a:ext cx="2160720" cy="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87760" y="29973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3080" y="2924280"/>
            <a:ext cx="0" cy="5760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21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effect will the tax have on consumers, producers, government and the market as a wh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ce is now P3 and has increased from P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consumer is paying a higher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see that the tax burden is roughly shared about ½ and 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333360"/>
            <a:ext cx="2303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rden of the ta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who pays the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91000" y="32878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56720" y="1484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6256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932360" y="3462480"/>
            <a:ext cx="174960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34290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4589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659640" y="3454560"/>
            <a:ext cx="433440" cy="144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4072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24720" y="23320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3500280"/>
            <a:ext cx="212256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57720" y="2308320"/>
            <a:ext cx="2409480" cy="20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3213000"/>
            <a:ext cx="2196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87760" y="29973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957920" y="3776400"/>
            <a:ext cx="1774800" cy="126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78440" y="3487680"/>
            <a:ext cx="1728720" cy="289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230640"/>
            <a:ext cx="1729080" cy="198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965480" y="32130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27640" y="364500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8360" y="5229360"/>
            <a:ext cx="2448000" cy="576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35640" y="537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6021360"/>
            <a:ext cx="2448000" cy="503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609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24600" y="1781280"/>
            <a:ext cx="2409840" cy="204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21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at effect will the tax have on consumers, producers, government and the market as a wh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ducer is now only receiving C per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m’s revenue was Q1P1 (bl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rm’s revenue has decrea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Q3C (yellow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91000" y="32878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56720" y="1484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6256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932360" y="3462480"/>
            <a:ext cx="174960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34290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59640" y="4589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659640" y="3454560"/>
            <a:ext cx="433440" cy="144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072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24720" y="23320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32360" y="3500280"/>
            <a:ext cx="212256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87760" y="29973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4957920" y="3776400"/>
            <a:ext cx="1774800" cy="126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965480" y="32130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7640" y="364500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3487680"/>
            <a:ext cx="212256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44960" y="3789360"/>
            <a:ext cx="180036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057720" y="2308320"/>
            <a:ext cx="2409480" cy="20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024600" y="1781280"/>
            <a:ext cx="2409840" cy="204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32720" y="3213000"/>
            <a:ext cx="2196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983120" y="3213000"/>
            <a:ext cx="1727280" cy="5540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21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effect will the tax have on consumers, producers, government and the market as a wh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vernmen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ains tax reven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XY x Q3 (quantity x tax (purple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rket falls in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Q1 to Q3 which could mean unemployment in that in that industry (derived demand for labo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90080" y="202104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91000" y="328788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48200" y="459108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458120" y="4594320"/>
            <a:ext cx="10843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56720" y="1484280"/>
            <a:ext cx="853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62560" y="4581360"/>
            <a:ext cx="596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92640" y="2236680"/>
            <a:ext cx="3186360" cy="20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90080" y="4181400"/>
            <a:ext cx="5461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932360" y="3462480"/>
            <a:ext cx="1749600" cy="61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93080" y="3429000"/>
            <a:ext cx="0" cy="1152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4589640"/>
            <a:ext cx="6048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659640" y="3454560"/>
            <a:ext cx="433440" cy="144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4072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24720" y="2332080"/>
            <a:ext cx="854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3500280"/>
            <a:ext cx="212256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87760" y="299736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957920" y="3776400"/>
            <a:ext cx="1774800" cy="126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48200" y="1700280"/>
            <a:ext cx="0" cy="289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965480" y="3213000"/>
            <a:ext cx="1749240" cy="648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27640" y="3645000"/>
            <a:ext cx="503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057720" y="2308320"/>
            <a:ext cx="2409480" cy="20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024600" y="1781280"/>
            <a:ext cx="2409840" cy="204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32720" y="3213000"/>
            <a:ext cx="21960" cy="1368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4428000" y="1659960"/>
            <a:ext cx="6476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23640" y="189000"/>
            <a:ext cx="77770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ime for you to do some wor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pages 63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the student workpoint P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 Exam Q’s 1 on P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ly 1a if you are 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a and b if you are HL (after the next 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979640" y="2679840"/>
            <a:ext cx="5184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08:03:14Z</dcterms:created>
  <dc:creator>Rom</dc:creator>
  <dc:description/>
  <dc:language>en-US</dc:language>
  <cp:lastModifiedBy>Rom</cp:lastModifiedBy>
  <dcterms:modified xsi:type="dcterms:W3CDTF">2011-07-28T08:12:20Z</dcterms:modified>
  <cp:revision>20</cp:revision>
  <dc:subject/>
  <dc:title>Elasticities</dc:title>
</cp:coreProperties>
</file>